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3.wmf" ContentType="image/x-wmf"/>
  <Override PartName="/ppt/media/TYP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50D-78C6-4380-9A10-97D14C6EBB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05F-E2E0-49CE-883D-8060C452A7F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D84-CDFD-47CD-A799-5F4B5169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A7E-1D3E-4D28-95EF-3360C4A4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6B2-1DCB-42A5-A1CD-A4A2F39E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715-8D21-48E0-87A2-A12B8CB5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7AB9-7B7E-4C23-9B0F-90FF9961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BED2E-3917-4DCD-A572-C5B0AA2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4ABB-E6D7-453C-A087-1B0321B6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AE6F1-22C7-4C24-B494-2BC1F411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E1710-268D-4461-B5AB-C2FE659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9053D-DC81-4CE9-9688-C06A9F1F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6EE5C-C32E-41D2-9F4B-4DE1E87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EAD-79BB-4563-84E5-D4B3A19E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D485B-A382-4C7B-B34F-1501087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FA6F-E6D4-458B-B3B3-C1CB29EF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CB8D8-1CE1-4F13-B69F-0E4B809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47C44-33A2-4435-AFA1-246734A7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7B10E-A16C-49F0-846D-DBC1E2D3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660C-E267-4FAA-B724-22E8992A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CEDC-E643-4D8E-9F17-940AD45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69B6-525F-43E4-882B-9B049D5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C7DA-4FD9-458F-9D47-C1C1FF84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933F-8D12-41EC-BC3A-481A5D8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D94-66D3-4B8F-9EEA-6212E99B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132D-B70B-4C79-97D7-1E15A7E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B23B-4197-4084-8FA3-761B11BA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D810-03C5-4D6B-88A9-8ED6DC5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EB6E-6E8C-4D93-A9B0-F7E415D9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8C97-219D-40BC-B48B-661CC04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5413-70C7-4E4A-9BD4-FEEA1F38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4F78-281C-451D-828F-7A05FE22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DC083-3A28-46D7-9404-BB639F9D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879FF-CA56-442F-9685-D98C0AB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63AF7-EF42-46FE-8CFF-154B5E13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EF9-B0D0-4CD8-86FB-AACE713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BAF47-C550-4BA9-9109-2C7302D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1FB64-2B25-4662-99CC-255F2C72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0A68F-3BB0-4080-BCF0-4327F757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7FFE1-5DD9-4828-84FA-BAF4B15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C01F6-C2FF-4AA4-9573-E85B1D7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9F2F1-DBE4-4540-825A-A8DB0DD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CEEA5-52AB-4D0D-9AF9-C66A61F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9B695-A553-47A3-BCBA-5ECA7056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861E4-4B4E-40BC-8EA8-C8F350B2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42B67-7AED-45BC-BDB6-3E0C15B0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7F2-4323-46AA-A488-0566E98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D3589-411B-44E7-8F48-F4D4B5EE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90B46-F016-4F7E-836E-E81B8B2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78B92-7E9A-48C2-B3F7-10061A61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8859A-BFC7-4860-84B3-7F7CD26B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4D651-2193-4335-97AD-7AECB2C9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51E59-EE93-4940-A82A-D97D21C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07072-4A35-4241-9226-E29FE26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C546B-D99D-4FB5-8C4B-A907C65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D791B-2E2C-42D6-8B12-64CECA20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B8618-DB22-4B4E-B578-F2C476ED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7CA-FC31-45CE-AA70-5788447C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EC10F-2C4A-4AB4-8BEF-3E50AE19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245DB-A321-4AAB-B2DC-CD2A0AD1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F37E9-E7F8-4734-A5C2-39BCEE5A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70BBC-C001-4FCF-917A-956CE97A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DFA92-30D3-4EEC-8398-FE26391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BDB9F-BB47-485F-A8F2-F7F4310B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1A919-6C9B-4921-8234-0F601FC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3B045-71B5-4D46-BED0-BBE7E97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9EEF3-B009-4722-8C6D-05FE135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5E5F4-0E96-474B-B46F-320817E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432-6F4D-4F3B-90E4-7489EA6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C46A1-3B1B-4E8A-B1E2-6F2D2A5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39FCA-7235-4E73-932F-78C5FA03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84100-02AE-4B25-A75B-78FB9D60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135-3D27-4FA3-A3B8-919B793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B06-A039-4B2F-9246-6C89071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2D7-2BF3-410F-A4A6-F86B16DAE9B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ector drept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Conector drept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5654-3363-438D-93B1-2FC70B7964D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ector drept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8BB-F9FB-4E9F-8E4C-86706C2EB61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ector drept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Conector drept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2BE-2F56-4884-A490-557B0F27FCD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DD2-38EA-4F29-A15D-C91D43B2466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0CE-FEDD-44F4-A81C-D5A88B7EBE5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tomu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a atomulu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8" descr=""/>
          <p:cNvPicPr/>
          <p:nvPr/>
        </p:nvPicPr>
        <p:blipFill>
          <a:blip r:embed="rId3"/>
          <a:stretch/>
        </p:blipFill>
        <p:spPr>
          <a:xfrm>
            <a:off x="6705720" y="2362320"/>
            <a:ext cx="1752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efac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b59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b59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395280" y="33336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tapele metode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06440" y="1197000"/>
            <a:ext cx="8413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asa se imparte in 3 grupe de cate 4 ele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iecare grupa trebuie sa faca  o lista  cu tot ce stie si ce vrea sa stie despr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.   Dupa 10 minute de lucru pe grupe se completeaza pe tabla tabelul  folosindu-se de listele realizate de ele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-252360" y="333864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79360" y="3851280"/>
            <a:ext cx="8381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ea ce stim/credem ca stim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ea ce vrem sa s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243000" y="41292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257040" y="41148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304920" y="60199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8915400" y="41148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8839080" y="5943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4676760" y="4200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483160" y="68580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304920" y="49528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>
            <a:off x="228600" y="57150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228600" y="5943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8915400" y="5943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228600" y="6019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20"/>
          <p:cNvSpPr/>
          <p:nvPr/>
        </p:nvSpPr>
        <p:spPr>
          <a:xfrm flipH="1">
            <a:off x="22824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914400"/>
            <a:ext cx="85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Profesorul cere grupelor sa spuna ce au scris si noteaza in coloana din stanga informatiile cu care tot grupul este de ac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0" y="216684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Folosind aceeasi metoda elevii vor elabora o lista de intreb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0" y="3121200"/>
            <a:ext cx="85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Profesorul noteaza in a doua coloana a tabelului intrebarile. Aceste intrebari vor evidentia nevoile de invatare ale elevilor in legatura cu tema abor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-380880" y="5122800"/>
            <a:ext cx="998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efac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2:35:40Z</dcterms:created>
  <dc:creator>Fritz</dc:creator>
  <dc:description/>
  <dc:language>en-US</dc:language>
  <cp:lastModifiedBy>user</cp:lastModifiedBy>
  <dcterms:modified xsi:type="dcterms:W3CDTF">2010-05-25T23:18:41Z</dcterms:modified>
  <cp:revision>15</cp:revision>
  <dc:subject/>
  <dc:title>Simona mezei</dc:title>
</cp:coreProperties>
</file>